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62C-EF3C-4070-8436-653F959D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5E5-B319-4C54-AD44-AA0DEC8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885-2290-4C12-BB0A-7D77B583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C3E-E643-4DB7-85A3-607F4935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36B-3314-4282-9B7C-93915DD8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45F-64EC-4A4D-9CB1-5D721C43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57F-DE74-428C-BF7A-4A12529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9F7-B887-42AD-9C6E-9CBB752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E64-B955-42B8-A0A0-20215AF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F69-625F-433D-938D-EF6E098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077-58C9-41EC-908B-227262C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319-6CD3-4973-B7DB-73B2DB8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8277-3F70-4732-897D-A1150835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4964400" cy="58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57400" y="750960"/>
            <a:ext cx="5334120" cy="513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676520" y="1447920"/>
            <a:ext cx="58672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600200" y="1295280"/>
            <a:ext cx="62485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895480" y="914400"/>
            <a:ext cx="3254400" cy="492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3668760" cy="51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167360" cy="512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05360" cy="57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879480"/>
            <a:ext cx="7010280" cy="482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058080" cy="52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57:33Z</dcterms:created>
  <dc:creator>Chris Mclemore</dc:creator>
  <dc:description/>
  <dc:language>en-US</dc:language>
  <cp:lastModifiedBy>Help Desk</cp:lastModifiedBy>
  <dcterms:modified xsi:type="dcterms:W3CDTF">2009-08-19T22:12:18Z</dcterms:modified>
  <cp:revision>4</cp:revision>
  <dc:subject/>
  <dc:title>PowerPoint Presentation</dc:title>
</cp:coreProperties>
</file>